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06E28-7B88-4507-B49C-12FAE96C9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088B1-276D-4EC4-BF61-90FF72CB7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CD1DB-C38F-423B-8F55-5BFF1A4E2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6DB3B-473F-4AFD-9207-12BF53771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279DA9-8896-4E70-92AC-AC9866A1E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169A06-8F6A-4EFE-A7A9-880EC2030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A7E789-7456-405E-B9E0-99A1CD25A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8250EA-6346-4C94-A9C0-5936184D7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15E664-9337-4AFB-901C-1C686B42A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0F66F6-CAB1-45DD-8DB2-392D36DEE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812A1E-D144-4067-BB6B-05B06651D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E9942-6794-4659-8AF7-D5CAA3236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F49A6F-C5EE-4058-9ECE-ED092B640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B58E4E-3045-4D29-81E2-67088B171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017939-2018-4FE3-AF10-026C56BEB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1D36D5-9EA5-4EF2-9F56-D76C58F4B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B43B9D-9871-4C61-AFC2-F6E7CD4BC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69E31-2AD1-4AA0-8CB3-C4DFDA8C9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696E4-082C-4AB4-8001-C5BCB0ACD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28DA4-CBF1-4377-82AD-24635E6EB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1B84B-EBA1-4FC7-8392-F0E48A226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C3264-6A5D-4141-9441-3A6307093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E2FE4-4095-4B38-8C1F-37404AD2E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5A072-AD95-458F-A10A-7F708B1D4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B8041-2B04-4F0E-A95D-30ED58921D9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33BEA-543D-41AF-B4BC-D23BC86EBC2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cit.cornell.edu/policy/memos/facebook.html" TargetMode="External"/><Relationship Id="rId2" Type="http://schemas.openxmlformats.org/officeDocument/2006/relationships/hyperlink" Target="http://www.educause.edu/apps/er/erm06/erm0660.asp" TargetMode="External"/><Relationship Id="rId3" Type="http://schemas.openxmlformats.org/officeDocument/2006/relationships/hyperlink" Target="http://www.educause.edu/LIVE0621" TargetMode="External"/><Relationship Id="rId4" Type="http://schemas.openxmlformats.org/officeDocument/2006/relationships/hyperlink" Target="http://blogs.edgehill.ac.uk/webservices/2007/10/30/fear-of-facebook/" TargetMode="External"/><Relationship Id="rId5" Type="http://schemas.openxmlformats.org/officeDocument/2006/relationships/hyperlink" Target="http://student.independent.co.uk/university_life/article3068385.ece" TargetMode="External"/><Relationship Id="rId6" Type="http://schemas.openxmlformats.org/officeDocument/2006/relationships/hyperlink" Target="http://www.apple.com/au/education/digitalkids/disconnect/landscape.html" TargetMode="External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1447920"/>
            <a:ext cx="883944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3e3ff"/>
                </a:solidFill>
                <a:latin typeface="Arial"/>
              </a:rPr>
              <a:t>Facebook: teaching, communicating and collaborating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809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ny Bret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ad of IT Support Staff Servi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U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uesday 6 November 200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Disciplinary Actio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n’t name your employer and then defame them or say anything to bring them into disrepu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xford Students have been disciplined with evidence from Facebook after post-exam “trash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April, students at a Toronto school were banned from an end-of-the-year trip after disparaging remarks about a teacher were found on Faceboo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So why use Facebook for Teaching?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sonal and professional networking only differ in the content, not the to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udents today are “digitally native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 is a divide between the way they learn and the way we tea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are the digital immigrants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aching students the way they prefer to learn may improve attain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Digital Natives vs. Digital Immigrants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990720" y="1295280"/>
          <a:ext cx="7315200" cy="472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295280"/>
                    <a:ext cx="7315200" cy="472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8" name=""/>
          <p:cNvSpPr/>
          <p:nvPr/>
        </p:nvSpPr>
        <p:spPr>
          <a:xfrm>
            <a:off x="525960" y="6361200"/>
            <a:ext cx="83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ource: http://www.apple.com/au/education/digitalkids/disconnect/landscape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Teaching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Have your students in group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Have them as Facebook “friends” perhaps with limited profile stat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ost and share UR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Weblearn materi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Reading li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Other online materi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hotos &amp; Videos (but watch copyright!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ommunicating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iscuss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hot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Vide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osted items (Weblearn URLs?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Group events and invit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Groups for tutorial group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on’t have to be a friend to be in a group with someo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onal messages &amp; threa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ollaborating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-360" y="1600200"/>
            <a:ext cx="8991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oss-Institution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bject-specific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y search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oups or Events for specific conferences/meeting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CISA is experimenting with th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asy way to post and share videos and phot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iversal across HE worldwide (almost!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n’t forget ownership &amp; privacy issues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Exercis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28240" y="1371600"/>
            <a:ext cx="8915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ke a profile if you don’t already have o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just your privacy settin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oin the Oxford net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ke friends with your neighbou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ke your neighbour only see your limited prof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arch for groups that cover your subj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ke a group and invite your neighbour to it – or join an existing o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ve a look at the Oxford network p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arch for some people you kno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usual names are easier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28240" y="1371600"/>
            <a:ext cx="8915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ffcc"/>
                </a:solidFill>
                <a:uFillTx/>
                <a:latin typeface="Arial"/>
                <a:hlinkClick r:id="rId1"/>
              </a:rPr>
              <a:t>http://www.cit.cornell.edu/policy/memos/facebook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seful notes from Cornell (April 2006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ffcc"/>
                </a:solidFill>
                <a:uFillTx/>
                <a:latin typeface="Arial"/>
                <a:hlinkClick r:id="rId2"/>
              </a:rPr>
              <a:t>http://www.educause.edu/apps/er/erm06/erm0660.as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tes from Educause December 2006 (long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ffcc"/>
                </a:solidFill>
                <a:uFillTx/>
                <a:latin typeface="Arial"/>
                <a:hlinkClick r:id="rId3"/>
              </a:rPr>
              <a:t>http://www.educause.edu/LIVE062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ive presentation: Facing Facebook and other social networking technologi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ffcc"/>
                </a:solidFill>
                <a:uFillTx/>
                <a:latin typeface="Arial"/>
                <a:hlinkClick r:id="rId4"/>
              </a:rPr>
              <a:t>http://blogs.edgehill.ac.uk/webservices/2007/10/30/fear-of-facebook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mments from a UK Univers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ffcc"/>
                </a:solidFill>
                <a:uFillTx/>
                <a:latin typeface="Arial"/>
                <a:hlinkClick r:id="rId5"/>
              </a:rPr>
              <a:t>http://student.independent.co.uk/university_life/article3068385.e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etworking sites: Professors keep out! (October  07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ffcc"/>
                </a:solidFill>
                <a:uFillTx/>
                <a:latin typeface="Arial"/>
                <a:hlinkClick r:id="rId6"/>
              </a:rPr>
              <a:t>http://www.apple.com/au/education/digitalkids/disconnect/landscape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he “digital disconnect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Agenda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ick Facebook Introdu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ivacy and Ownership Concer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ciplinary A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munica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llabora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ach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actic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What is Facebook?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“social networking”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amework for inform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lex control of who can see wh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rs have a “profile” with a picture* and other personal details as they wish, including “limited profile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sed on “Networks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acebook creates a newsfeed based on what your “friends” are do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480" y="6491160"/>
            <a:ext cx="707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* Picture is important for recognition, especially with common nam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What is Facebook?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610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tarted in Harvard University Feb 200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Later added academic addresses (.edu, .ac.uk etc) making “networks” for “colleges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xford network has just over 33,000 people in it, out a possible c. 45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Regional and Employer networks also ex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gional” anyone can join, but can’t change too oft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mployer” requires email address in the right doma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Opened to anyone with email in Sep 200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Facebook featur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W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ssages INBOX (and thread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k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ou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otos &amp; Videos (with tagging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sted items (text and URL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ared i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Other Social Networking Sit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Bebo – lots of school childr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MySpace – musicians et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ometimes called “poor man’s facebook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Friendfind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wit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nd other minor si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Privacy Concern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ople worry about revealing their personal lives to the worl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utors and Students may want to keep things from each other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tricted Profiles can hel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dentity Theft Ris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n’t show DOB and Home Address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cebook staff can check profiles (for policy violation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ngs are “cached” on the web so even if you put something up then remove it, it may still be held elsewhere for years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How to control privacy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ivacy screen on Faceboo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ttings for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f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ar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ws fe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ke, message, friend reque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ppli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n’t put stuff up you don’t want others to see.  Think about future employers et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Ownership Concern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Facebook T&amp;Cs say that they own everything you put t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All content on the Site … are the proprietary property of the Company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opyright Policy is stri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ut don’t put things up you intend to publish or otherwise claim copyright to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You acknowledge and agree that any questions, comments, suggestions, ideas, feedback or other information about the Site or the Service ("Submissions"), provided by you to Company are non-confidential and shall become the sole property of Company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ony Brett</cp:lastModifiedBy>
  <dcterms:modified xsi:type="dcterms:W3CDTF">2007-11-06T11:26:51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